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F5C-CBD9-4E6B-B71A-3C553DC2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4DE-AF00-445E-974B-DD4C75AB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466-21B6-46CB-9C19-AAC50223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55B-0492-43AF-A06C-733BBB42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440-CFCB-4424-821C-44B1352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A3C-7972-4B57-86BC-CAC44CE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D80-5542-45E9-B822-E4CFB43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044-16C8-4885-9045-0A3E2759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D08-D968-4E25-B796-7FA196AF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82D-5F24-463A-A01C-4B66B20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69E-B1CF-48E2-AA38-5D8B6108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F5B-C66B-420B-A48A-CB9F923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2B6B-6CFC-40EC-8366-C493CB734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7500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ff"/>
                </a:solidFill>
                <a:latin typeface="Edwardian Script ITC"/>
              </a:rPr>
              <a:t>Russian econo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Mar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mand </a:t>
            </a: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73392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comic"/>
              </a:rPr>
              <a:t>Russia used to have a command ecomony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"/>
              </a:rPr>
              <a:t>All the farmland and factorys were controlled by the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"/>
              </a:rPr>
              <a:t>In 1985 mikhail gorbachev became the leader of the sovi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"/>
              </a:rPr>
              <a:t>He let farmers and factory managers to make their own decisions</a:t>
            </a: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8 -0.21572 C -0.07795 -0.22381 -0.08021 -0.30104 -0.0809 -0.31306 C -0.0816 -0.32578 -0.0842 -0.35121 -0.0842 -0.35121 C -0.08524 -0.34982 -0.08663 -0.34867 -0.08733 -0.34682 C -0.08872 -0.34289 -0.09045 -0.3341 -0.09045 -0.3341 C -0.09757 -0.14474 -0.08819 0.04509 -0.09687 0.23445 C -0.0974 0.26752 -0.09844 0.30081 -0.09844 0.33387 C -0.09844 0.37295 -0.10122 0.39538 -0.07778 0.41619 C -0.06163 0.41272 -0.04635 0.40255 -0.0349 0.38659 C -0.03299 0.37364 -0.03108 0.3637 -0.02535 0.35283 C -0.02361 0.34081 -0.02205 0.32856 -0.0191 0.317 C -0.0184 0.30775 -0.01615 0.29873 -0.0158 0.28948 C -0.01476 0.26567 -0.01788 0.22405 -0.01111 0.1963 C -0.00972 0.17827 -0.00729 0.16139 -0.00469 0.14359 C -0.00365 0.13642 -0.00278 0.12925 -0.00156 0.12231 C -0.00052 0.11676 0.00156 0.10544 0.00156 0.10544 C 0.00104 0.07029 -3.33333E-006 -0.00023 -3.33333E-006 -0.00023 E">
                                      <p:cBhvr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50000">
              <a:srgbClr val="33cc33"/>
            </a:gs>
            <a:gs pos="100000">
              <a:srgbClr val="175e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</a:rPr>
              <a:t>Moscow reg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cow is the largest city in rus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arming takes place in moscow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s raise dairy cattle and grains such as barley and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rops include flax,it is used to make tex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3200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20231E-007 C 0.01059 -0.00069 0.02118 -0.00115 0.03177 -0.00208 C 0.04184 -0.00323 0.05191 -0.00855 0.06198 -0.01063 C 0.09323 -0.02451 0.0474 -0.00485 0.08247 -0.01688 C 0.09549 -0.0215 0.10712 -0.02867 0.12066 -0.03191 C 0.14184 -0.04901 0.16684 -0.05526 0.18733 -0.07399 C 0.19393 -0.08023 0.20087 -0.08578 0.20643 -0.09318 C 0.21598 -0.10589 0.20521 -0.09942 0.22066 -0.11214 C 0.23108 -0.12092 0.24341 -0.1267 0.254 -0.13526 C 0.27066 -0.14867 0.28594 -0.16508 0.30469 -0.17341 C 0.31962 -0.18821 0.3132 -0.18196 0.32379 -0.19237 C 0.32605 -0.19468 0.32917 -0.19491 0.33177 -0.19676 C 0.34098 -0.20323 0.34914 -0.21248 0.35868 -0.2178 C 0.36233 -0.21988 0.36632 -0.22127 0.3698 -0.22404 C 0.37275 -0.22636 0.375 -0.23006 0.37778 -0.2326 C 0.39375 -0.24763 0.41094 -0.26011 0.42691 -0.27491 C 0.43039 -0.27815 0.43316 -0.28231 0.43646 -0.28555 C 0.43959 -0.28855 0.44289 -0.2911 0.44601 -0.29387 C 0.44861 -0.29873 0.45105 -0.30404 0.454 -0.30867 C 0.46493 -0.32485 0.45608 -0.30335 0.46667 -0.32555 C 0.47379 -0.34034 0.4783 -0.35769 0.48577 -0.37202 C 0.49323 -0.40231 0.50295 -0.43075 0.51111 -0.46081 C 0.51893 -0.48948 0.52257 -0.52023 0.52865 -0.54959 C 0.5342 -0.57572 0.54045 -0.60115 0.54445 -0.62797 C 0.54306 -0.6548 0.54532 -0.67468 0.52865 -0.69133 C 0.52327 -0.69063 0.51771 -0.69156 0.51268 -0.68925 C 0.50868 -0.6874 0.49966 -0.67329 0.49688 -0.67029 C 0.47743 -0.64948 0.50348 -0.68832 0.47136 -0.64485 C 0.46528 -0.63676 0.46007 -0.62751 0.454 -0.61942 C 0.43386 -0.5926 0.40625 -0.56092 0.39358 -0.52647 C 0.38611 -0.50589 0.38195 -0.48925 0.37778 -0.46728 C 0.37674 -0.45202 0.37587 -0.43769 0.37309 -0.42289 C 0.36858 -0.36693 0.37032 -0.39676 0.37309 -0.28971 C 0.37361 -0.26982 0.38073 -0.25086 0.38577 -0.2326 C 0.39393 -0.20277 0.4 -0.16925 0.41268 -0.14173 C 0.43195 -0.10011 0.41407 -0.14219 0.42865 -0.1163 C 0.43004 -0.11399 0.43021 -0.11029 0.43177 -0.10797 C 0.44011 -0.0948 0.45105 -0.08485 0.46198 -0.07607 C 0.46945 -0.07029 0.47396 -0.06404 0.48247 -0.0615 C 0.48403 -0.05988 0.48559 -0.05803 0.48733 -0.05734 C 0.4915 -0.05526 0.5 -0.05318 0.5 -0.05318 C 0.51059 -0.05364 0.52118 -0.05364 0.53177 -0.05526 C 0.53403 -0.05572 0.53577 -0.05826 0.53802 -0.05942 C 0.54063 -0.06034 0.54341 -0.06034 0.54601 -0.0615 C 0.54931 -0.06243 0.55556 -0.06566 0.55556 -0.06566 C 0.55608 -0.06774 0.55573 -0.07075 0.55712 -0.07191 C 0.56146 -0.07514 0.58056 -0.07399 0.58247 -0.07399 E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28:18Z</dcterms:created>
  <dc:creator> </dc:creator>
  <dc:description/>
  <dc:language>en-US</dc:language>
  <cp:lastModifiedBy> </cp:lastModifiedBy>
  <dcterms:modified xsi:type="dcterms:W3CDTF">2010-12-14T17:13:04Z</dcterms:modified>
  <cp:revision>3</cp:revision>
  <dc:subject/>
  <dc:title>Russian economy</dc:title>
</cp:coreProperties>
</file>